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5E358BC-CE7D-4DAA-A9F1-0172ABE8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6AB-9201-4A8E-B4A6-55349A73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195-5A82-4D40-97CA-598E8520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167-4E67-4409-A28C-C379ACAF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E91-9849-44BC-A8C8-DB2EBFB6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F663-61B8-402F-9E3D-F354A940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C54-47B8-4BF1-A7DA-D93051A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8AE-5095-4D8D-9791-A53AA34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203E-B9CD-40D7-9165-0E4CB0D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FBB9-B290-4A11-A7F7-8E836FA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B80A-66DF-4BD6-BF24-1552E9C8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78B-0C1A-4785-A12C-FB0CE97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64E-4044-468A-9593-B6D02CC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D976-F214-4B56-BC94-4C30D0D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154-1358-4D50-9783-D33BFA4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B006-CB73-472B-A18D-DC9FEA7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79CC-3691-4FBB-B567-1C0DD704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37E3-43F8-4697-8ABC-24FC8996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700-4EE0-4073-B57A-44713DF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FA4-3A06-42EE-8ECB-899D3A3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652-A0AA-4DC9-A154-FFBFFD0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D2F-F92B-4158-8FC2-26294FCA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B60-A074-4C96-89B4-DA7EF02D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565-2224-4993-BFC1-BAD2D4A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553-FD57-4D6D-855D-E546E8C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860-AC4D-4A84-9F6F-FCED3F3D04E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58F-74D9-45E2-9719-97EA10AB9EA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51D-3AF2-4549-926D-59BDA801BA7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4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Linear Expressions 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presentation Activity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0400" y="2664000"/>
            <a:ext cx="214164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05320" y="2676600"/>
            <a:ext cx="2067120" cy="1184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949400" y="4191120"/>
            <a:ext cx="2273400" cy="12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253120" y="4079880"/>
            <a:ext cx="2079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your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cument"/>
          <p:cNvSpPr/>
          <p:nvPr/>
        </p:nvSpPr>
        <p:spPr>
          <a:xfrm>
            <a:off x="1219320" y="256392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cument"/>
          <p:cNvSpPr/>
          <p:nvPr/>
        </p:nvSpPr>
        <p:spPr>
          <a:xfrm>
            <a:off x="2408400" y="29732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672000" y="33368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cument"/>
          <p:cNvSpPr/>
          <p:nvPr/>
        </p:nvSpPr>
        <p:spPr>
          <a:xfrm>
            <a:off x="4883040" y="33894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cument"/>
          <p:cNvSpPr/>
          <p:nvPr/>
        </p:nvSpPr>
        <p:spPr>
          <a:xfrm>
            <a:off x="6159600" y="27846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cument"/>
          <p:cNvSpPr/>
          <p:nvPr/>
        </p:nvSpPr>
        <p:spPr>
          <a:xfrm>
            <a:off x="7383600" y="20448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1000" y="2689200"/>
            <a:ext cx="255600" cy="255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4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75000" y="3321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w can we open this up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3680" y="1889280"/>
            <a:ext cx="6040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2400" y="2165400"/>
            <a:ext cx="6697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ost to each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your picture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2400" y="2165400"/>
            <a:ext cx="6697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s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compare your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800" y="59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ing Equations using Gizmo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14440" y="1612800"/>
            <a:ext cx="6121440" cy="379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556740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6 – 8 Algebra                                                           Solving expressions, equations and inequalities         Modeling One Step Equations – Activit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Algebra Ti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) 2x + 3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) 5x + 1 = 2x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) x – 2 = -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381600">
            <a:off x="5470920" y="4034520"/>
            <a:ext cx="2206800" cy="430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398840"/>
            <a:ext cx="43020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84440" y="1965240"/>
            <a:ext cx="5830920" cy="4676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: </a:t>
            </a:r>
            <a:br>
              <a:rPr sz="40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National Library of Virtual Manipulativ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By Graphing Each Side: Gizmo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40040" y="2257560"/>
            <a:ext cx="566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In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solving equ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86200" y="3719520"/>
            <a:ext cx="3698640" cy="2478240"/>
            <a:chOff x="2986200" y="3719520"/>
            <a:chExt cx="3698640" cy="2478240"/>
          </a:xfrm>
        </p:grpSpPr>
        <p:sp>
          <p:nvSpPr>
            <p:cNvPr id="118" name="Cloud"/>
            <p:cNvSpPr/>
            <p:nvPr/>
          </p:nvSpPr>
          <p:spPr>
            <a:xfrm>
              <a:off x="2986200" y="3719520"/>
              <a:ext cx="3698640" cy="2478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87800" y="4316400"/>
              <a:ext cx="33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change Open Task with another Pair.   Try i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132600" y="4498920"/>
            <a:ext cx="2098440" cy="1406520"/>
            <a:chOff x="6132600" y="4498920"/>
            <a:chExt cx="2098440" cy="1406520"/>
          </a:xfrm>
        </p:grpSpPr>
        <p:sp>
          <p:nvSpPr>
            <p:cNvPr id="121" name="Cloud"/>
            <p:cNvSpPr/>
            <p:nvPr/>
          </p:nvSpPr>
          <p:spPr>
            <a:xfrm>
              <a:off x="6132600" y="4498920"/>
              <a:ext cx="2098440" cy="14065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3400" y="4813200"/>
              <a:ext cx="156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 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12:06:50Z</dcterms:modified>
  <cp:revision>139</cp:revision>
  <dc:subject/>
  <dc:title>Math GAINS 2008-09</dc:title>
</cp:coreProperties>
</file>